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3DF84A8-73F3-4016-933C-095503944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C98162-00D9-4181-8A25-5427A3040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D3C0A-16ED-4B9B-BEAE-D250F0704C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B04FEC-EAF0-489F-B5D8-5BFAE79246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C8812C-7A38-4200-9CC7-6D6C2987D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0861CA-9396-4252-AD72-88C43ECC38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EF5C106-AF86-4C14-837B-20BD7DF44B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D17A5-79DD-48F0-AAD8-CB91D5260B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EEBD5D-0E48-4BFD-839E-3341F11CC46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99AA76E4-8A0A-4B3B-ADDB-6C771A810A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0372E76-3BC2-40A7-8D26-CD49BE8852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6DD4E5-DD18-4044-8894-8E7F9917AF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6E2F2F-157F-479A-8007-5F111645E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0B059C-868D-4114-82DF-F6D50021BC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92A4-D629-4DDF-9052-C146BB0CE18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oval"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oval"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oval"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oval"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oval"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oval"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oval"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oval"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oval"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oval"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oval"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oval"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oval"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oval"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oval"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oval"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oval"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oval"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oval"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oval"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oval"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oval"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oval"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oval"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oval"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oval"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oval"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oval"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