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1F51E-2E15-41F5-A04C-0F3A1F7F34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286DB-428E-40EC-B72F-3218A5C994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138FA-BFF7-4B81-B2E7-65B184164A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5552D-F0AE-4A8F-BA19-8AF06E843D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7FC4D-AD3A-4134-A752-64E2CFA121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8DE81-AFEA-4EB8-ACDF-D18447BE73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E2821-9F79-4659-BF09-B3208BE758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A81B4-BD36-4F65-BD93-2A36B09C0F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F3276-4817-4DEF-B017-F1616A7FB2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7549A-3A33-4B12-B009-C851680FF5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FCE5C-260A-44CB-956A-9FDCC2CAFA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EA5BF-B460-4E8D-8827-740D342A15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6DE0B-59D6-4654-B667-B9A71B50B61D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2240" y="2227320"/>
            <a:ext cx="8604000" cy="19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Control – We Have a Problem…E-Notification</a:t>
            </a:r>
            <a:br>
              <a:rPr sz="2400"/>
            </a:br>
            <a:br>
              <a:rPr sz="24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raig Farney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835680" y="3479760"/>
            <a:ext cx="202572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571680" y="11808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19656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 – Second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56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5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 Handling Techniq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Condition Code in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rading Partner not found, set code to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Invalid Data, set code to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x, set code to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e Translator-Generated Condition 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Map Not Found, bypass commun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Missing Mandatory Element, continue and Log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Condition Code &lt; 4, Successful Translatio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Condition Code &gt; x, perform or do not perform next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o Process Log during each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408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3360" y="11664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I – Intermed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ifi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ds reach of Process 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reaction time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now about it w/o having to look at Process 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have to be a programmer to find out what happe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upply more detailed and customized content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expanded to deliver other information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orts, etc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760" y="54576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7040" y="116640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1940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I – Intermed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40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4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ification Techniqu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processes that are dedicated to 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 notification processes when certain conditions ex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Condition Code = x, execute notification process step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Condition Code &lt; y, execute notification process step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 notification processes before or after certain process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fter Translation step, send em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on completion, send em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4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s can be used to generate content of 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us Re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ate process stati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97 Reports / Late Not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rogate DI PRTFILE for Translation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567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616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95440" y="11361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I – Intermed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g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ole / operator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ant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-Line Application to view Process Notif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ail Control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ding Partner Control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67960" y="1776240"/>
            <a:ext cx="71931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Email Error Mess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non-zero return code has been issued by job E4JLBX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ease review each non-zero job step to determine if this is just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rning or an actual err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240" y="1776240"/>
            <a:ext cx="8643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Email Status Repor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llowing are the summary totals and dollars by trading partn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rtner Name             Total Invoices   Total          St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ANK OF AMERICA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6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$205,620.44      ACCEP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NERAL MOTORS                18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$152.25      ACCEP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$1,135,077.27      ACCEP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TAL ACCEPTED--------&g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14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$1,340,849.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TAL REJECTED--------&g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                 $.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34800" y="1776240"/>
            <a:ext cx="812664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997 Late Noti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TTENTION: GENERAL MO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ur records indicate the following Functional Acknowledgements (FA997s) have not been received for the invoice (811) transac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you have not retrieved your invoices within the last 7 d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lease do so.  Should you be experiencing any problems, pl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ntact us.  We will be happy to assist yo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Invoices sent on May 22,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SA/GS CONTROL NUMBERS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TAL NO INVOICES SENT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MUNICATIONS METHOD: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ONTH: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y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26960" y="1319040"/>
            <a:ext cx="7988400" cy="46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DI PRTFILE error progr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Until E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 DI PR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pos 10 = ‘Message: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tential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pos 15 not = TR0401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N1040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N1043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N1045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rite error message and code to Process L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 program condition code =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-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-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 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-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82160" y="1288800"/>
            <a:ext cx="824724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JCL for DI PRTFILE error progr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Until E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d DI PRT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pos 10 = ‘Message: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ential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pos 15 not = TR0401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N1040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N1043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N1045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error message and code to Process 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program condition code =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 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44440" y="1669680"/>
            <a:ext cx="74851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Email Control F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1  EMCNTL-REC.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EMCNTL-KEY.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RECORD-ID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20)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RECORD-SEQ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9(9).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EMCNTL-EMAIL-ADDRESS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50).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EMCNTL-THE-REST-GEN.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PARTNER-NAME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30).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ISA-ID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15).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BILLING-SYSTE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4).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REPORT-NAME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20).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FILLER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52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light Control We Have a Problem...E-Notification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12400" y="2157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sons why to explore E-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efits of E-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ges of E-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 of E-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llenges and Opportun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/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34800" y="1287000"/>
            <a:ext cx="81108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ding Partner Control F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1  TPCNTRL-RE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KE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TPCNTRL-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30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COMM-METHO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3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CD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CDR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DIRECT-CONNECT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DIR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EMAIL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EML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FTP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FTP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VAN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VAN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PTNR-EMAIL-ADDR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35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SEND-FILE-READY-EMAI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0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997-LATE-EMAI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0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STATU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0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ACTI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A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INACTI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I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INACTIVATE-D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0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02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10628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V – Advan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ed re-run and cor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human intervention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reduce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reaction time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lems can be addressed before someone gets around to looking at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Customer Service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 data more quickly and comply with Service Level Agre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28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1200" y="115056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V – Advan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ed re-run and correction Techniq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invalid or incomplete data to a ‘recycle’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email containing details of what was recycled and w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‘recycle’ file during normal process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data has been corrected it will be processed next 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email when ‘recycle’ file has been successfully proce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Email and Trading Partner Control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Recycle Email Notifi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FTP processing for JUL03 had rejected transactions do to incomplete FTP Set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following FTP files were placed on hol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4.P.EDIFTP.JUL03.T133251.T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4.P.EDIFTP.JUL03.T133251.T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Re-run Email Notifi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FTP reprocessing job E4JEFTPS released the following files from FTP hold and distributed them as follow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4.P.EDIFTP.JUL03.T133251.T05 - sent to FTP ser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4.P.EDIFTP.JUL03.T133251.T93 - sent to FTP ser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hallenges and Opportuniti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e line between too much, and too little information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not want an Email System that also does E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communicate the right information to the right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ous levels of det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5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l communications vs. External commun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5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communicate the right information to the right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5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23720" y="162576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7889fb"/>
                </a:solidFill>
                <a:latin typeface="Arial"/>
              </a:rPr>
              <a:t>Questions</a:t>
            </a:r>
            <a:br>
              <a:rPr sz="7200"/>
            </a:br>
            <a:r>
              <a:rPr b="0" lang="en-US" sz="7200" spc="-1" strike="noStrike">
                <a:solidFill>
                  <a:srgbClr val="7889fb"/>
                </a:solidFill>
                <a:latin typeface="Arial"/>
              </a:rPr>
              <a:t>&amp;</a:t>
            </a:r>
            <a:br>
              <a:rPr sz="7200"/>
            </a:br>
            <a:r>
              <a:rPr b="0" lang="en-US" sz="7200" spc="-1" strike="noStrike">
                <a:solidFill>
                  <a:srgbClr val="7889fb"/>
                </a:solidFill>
                <a:latin typeface="Arial"/>
              </a:rPr>
              <a:t> Answers</a:t>
            </a:r>
            <a:endParaRPr b="0" lang="en-US" sz="72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Reasons Why to Explore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a better way to be notified of Production Job / Process Failures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be proactive in reacting to minor failur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manual process controls and audits that could be automated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Disparate / Multip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deliver information to many people - some may not have access to cor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 Level Agreements (S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enefits of E-Notific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active instead of re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single interface for problem determination / 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time needed to solve a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historical audit of system / process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tag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2920" y="1463760"/>
            <a:ext cx="2006280" cy="44956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7889fb"/>
              </a:gs>
            </a:gsLst>
            <a:lin ang="108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age 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s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cess 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83000" y="1447920"/>
            <a:ext cx="1895400" cy="44956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7889fb"/>
              </a:gs>
            </a:gsLst>
            <a:lin ang="108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age 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ary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s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60920" y="1447920"/>
            <a:ext cx="1950840" cy="44956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7889fb"/>
              </a:gs>
            </a:gsLst>
            <a:lin ang="108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age I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medi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38840" y="1447920"/>
            <a:ext cx="2006640" cy="44956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7889fb"/>
              </a:gs>
            </a:gsLst>
            <a:lin ang="108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age I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vanc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medi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utomated re-run and corre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17720" y="1967040"/>
            <a:ext cx="4253040" cy="606240"/>
          </a:xfrm>
          <a:custGeom>
            <a:avLst/>
            <a:gdLst>
              <a:gd name="textAreaLeft" fmla="*/ 664560 w 4253040"/>
              <a:gd name="textAreaRight" fmla="*/ 3721680 w 4253040"/>
              <a:gd name="textAreaTop" fmla="*/ 151560 h 606240"/>
              <a:gd name="textAreaBottom" fmla="*/ 454680 h 606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990000"/>
              </a:gs>
              <a:gs pos="100000">
                <a:srgbClr val="ff33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Tahoma"/>
              </a:rPr>
              <a:t>Volume / Complexit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7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760" y="56160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17040" y="118224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 - Ba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Lo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s Information about each step execu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or Single Process Lo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run statistics / performance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s process 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es warnings or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al Historical repos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760" y="54576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7040" y="116496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 - Ba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Log Cont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Date/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Name/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 Records proces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 Records writ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ning / Error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or Outpu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RTFILE / FFSEXC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Date/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976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84320" y="1166760"/>
            <a:ext cx="88992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 - Ba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Log 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**********************************************************************************************************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WRAP/CONVERT EDI FILE   - FAAL         PROGRAM: E4UNWR02    START DT: 07/23/03  START TM: 11:06:04 JOB: E4JFARXS (TEST&amp;PROD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RAPPED RECORDS READ 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001337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ADER RECORDS DROPPED 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000007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CHANGES PROCESSED 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001026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WRAPPED RECORDS WRITTEN 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009290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WRAP/CONVERT EDI FILE   - FAAL         PROGRAM: E4UNWR02     END  DT: 07/23/03  END  TM: 11:06:06  RECS PROC:      1337  RETN CODE:0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760" y="54576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7040" y="118224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 – Second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 Handl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s process flow by using condition 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 / bypass steps when certain conditions ex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es basic O/S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written to Process 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3-09-17T17:42:11Z</dcterms:modified>
  <cp:revision>959</cp:revision>
  <dc:subject/>
  <dc:title>IBM Software Group</dc:title>
</cp:coreProperties>
</file>