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AD4D4-23F2-4DB0-BBB3-97B609C29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36BE-64FB-41C8-86C5-FFFFDE2A6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E9CF7-0DA1-41C1-A357-19E2F93D8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F1068-4029-4B6E-9A31-EBDF5794A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6C7A-4AC3-4E90-98E6-E30DBD554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C2159-C4E5-4BCD-AF05-2A5D79CEE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36DF0-A96C-4BF1-A31A-496FEFFE3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91AAF-E3B2-46F6-9406-CB4E0B34D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46F0-B0F8-49B5-A62E-46C9D5857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803B-3FEB-4091-BD03-51CD81E51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7FCF5-0F75-4BF9-AAEC-EFCBD8C213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7EBD2-EB80-4ECA-9197-55F52AE3D5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2607-3AE4-4CC4-A0B6-E9AF641E361F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grating to WDI 3.2 on Win2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e Eden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r e-Commerce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agemeyer North America, In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DI 3.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arity – we’ve been using DI since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migration from DI 2.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future mig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decision to include DI in Websphere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older 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ACOMS, ODETTE, UCS, X.12 V2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new XM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GIS BODs, Commerce 1 xCBL, Rosett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QSerie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indow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ty about future ERP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390, AS/400, Unix? Some combination?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now has a Windows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xtend the life of our S/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implementation of replac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ed business growth through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AIX expertise and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seemed adeq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dth of tool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ier release of new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entry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Data Transformation map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told us 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future mig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Webspher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have to learn both m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XM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o any (alm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signing data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Hagemeyer Business Message (H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ere going to re-map everything any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ked the mapper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we thought we were going to do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essage based integration hub architecture based on 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 all documents to HBM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for message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Integrator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” data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DI for “complex” data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Workflow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to-end au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transac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design poin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upport existing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support new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easily accommodate changes in the operat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handle th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ime requirements are getting 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lexibility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June 2002 we started to build it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d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documenting as-i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HBM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building the HNA EDI “bolt-on” for the H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Movex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x e-Collaborator - XML over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ll legacy EDI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lidate transactions with common trading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implementation by business subsystem – purchasing and A/P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, but the project surv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scope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GS put on hold – late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– target ERP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d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to support Vallen ERP system temporar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ERP is CamB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d to map Vallen EDI to ADF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term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len ADFs are very “EDI-lik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Vallen interface change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develop HBM for Cam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and Allied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 again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UNITE cancelled lat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ar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now longer term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h we had mapped to the H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andoned W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using new architecture to meet new requirements (XML, CS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d Websphere Application Server (W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olution components now built in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 what did we actually build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based integration hub using MQ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 enabled legacy application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QI used for routing and simple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programs used for utility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parser, search tool, comparison tool,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used for https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SS used for VAN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used for complex data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-EBCDIC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d and zoned decimal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egment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b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ssage per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R&gt;&lt;LF&gt; sepa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F record lengths have to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DI 3.2? Why Windows? Why DT m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we plan to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we actuall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 are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ill it all 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-MQSeries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character queue name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to physical filename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 mapp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loop function (XML large text fie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to-many transactions (outbound 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-to-one transactions (outbound 8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 in general and the DT mapper in particular are actually new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sion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M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store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how trading partners are handled – TP resolution, map rule selection, transaction store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one document type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the way it works with S/R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re are we today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igrated all Vallen VAN traffic to MQ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Q enabled all Vallen EDI application inte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developed DT maps for all Vallen transactions and tradi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currently migrating Vallen trading partners and maps to W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n will it end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migration to WDI 3.2 complete 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e CamBar to WDI 3.2 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Web site under construction – to be integrated with all the legacy E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quirements appear all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over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1/AS2, HTTPs, SMTP, MQSeries, FTP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XML “standar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ERP in 200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rocess – there is no end in 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progres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les keep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ture is still uncert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hitecture is flexible enough to handl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better than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ijer &amp; Co. was established in the former Dutch East Indies (now Indonesia) in 1900. Today, Hagemeyer N.V. is headquartered in Naarden, Netherlands (near Amsterdam). The company has 22,000+ employees serving more than a million customers in 37 countries worldw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yer North America, Inc. (HNA), A wholly owned subsidiary of Hagemeyer N.V., is a wholesale distributor focusing on business-to-business markets in electrical, safety, and industrial products and services throughout North America. HNA’s 4900+ associates serve more than 100,000 customers from approximately 500 location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Hagemeyer%20NA%20-%20COLOR" descr=""/>
          <p:cNvPicPr/>
          <p:nvPr/>
        </p:nvPicPr>
        <p:blipFill>
          <a:blip r:embed="rId1"/>
          <a:stretch/>
        </p:blipFill>
        <p:spPr>
          <a:xfrm>
            <a:off x="584280" y="654120"/>
            <a:ext cx="30225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ur environment when we started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–2000 Hagemeyer N.V. acquired 4 U.S. compa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eron &amp; Barkley Co. (CamBar) - ~55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– in-house ERP – DI2.1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4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Safety Supply – ~35 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/400 – in-house ERP – Harbinger TLE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3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Electrical Supply – ~8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package ERP – minimal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ied Electrical – ~2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modified package ERP - No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agemeyer Global Solution ( HGS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ERP – Movex ERP on AS/400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nstances (3 OR 4) in Europe, Australia, and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t-on” solution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ehousing/log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 (w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d migration by Operat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S, Canada, and Mexico formally combine into Hagemeyer North America, Inc. (H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operating on separate ERP systems as semi-independent operating companies (OpC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OpCos sent associates to the Netherlands to participate on Hagemeyer Solution Teams (HST) developing and implementing the Hagemeyer Global Solution (H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HST reported that the HGS for EDI will not satisfy HNA requirements without a lot mor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build HNA specific EDI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NA does more than twice as much EDI as the rest of Hagemeyer combined. We hoped we could “sell” our solution to the rest of Hagemeyer when we were d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x is still the target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gemeyer put the entire HGS project “on ho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migrate all US OpCos to one of our existing legacy systems (project Unite) – ERP target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budget for HGS is re-allocated to project 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target ERP selected – CamBar system with m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migration by customer segment and ge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postponed unt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to common EDI solution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arget ERP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ansactions using the new infrastructure g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XML based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 allocated to HGS/Unite project runs out 12/31/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reorganizes EDI support resources into e-commerce Systems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migrated transactions go live July 1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Vallen migration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CamBar migration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project may have eliminated the other systems by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Lee Edenfield</cp:lastModifiedBy>
  <dcterms:modified xsi:type="dcterms:W3CDTF">2004-07-16T14:54:07Z</dcterms:modified>
  <cp:revision>881</cp:revision>
  <dc:subject/>
  <dc:title>IBM Software Group</dc:title>
</cp:coreProperties>
</file>